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12.jpeg" ContentType="image/jpeg"/>
  <Override PartName="/ppt/media/image17.jpeg" ContentType="image/jpeg"/>
  <Override PartName="/ppt/media/image16.jpeg" ContentType="image/jpeg"/>
  <Override PartName="/ppt/media/image15.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5E0A6-004A-4B53-BC23-F1EAF43FDE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C9403-E583-4FEF-96FD-4644B604E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29E45-B406-4389-A53B-C5AFF58C44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2E6C66-D183-4519-9865-7E5BB77BA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269FC3-2B92-4448-9758-005EAF6C90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A89C44-0949-4344-BD82-F78FA21F63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B573CC-8810-413B-B648-150EBB1B19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0F16C4-6B1E-45AA-AD9E-54C8BE82EF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5F10E8-4185-4C07-AB15-36CC789D37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6A8FA9-6D61-46D4-950E-7F0CFBA415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622FF-188D-4A37-B3BA-29A0AAE991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94838-06AB-4255-8952-A48DC8A66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91040-4684-4564-9C64-A5AEA843E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4BC55-EDCA-43EE-9A7B-9D9BB3A78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F0A557-8D7D-4A11-90A9-EA77E8819C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6FB5B0-3B2D-4537-B464-9D3D84E58A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0D1521-7D2E-4060-ADF5-0F0DEECA93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91E42F-BAB5-4A95-8E1C-49BAFA7D3F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1866DA-029D-4E97-850B-F7649DBCDF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0711D8-5C8E-416F-9A31-5B80806D82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B025C2-9716-4C30-B8D9-50C33F371D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BAB6CA-D9D8-4087-922B-E23958F087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522E9-C7D1-4AC0-BABB-34122BF2E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7BF523-624C-4EA8-A43D-AD3D1BBB47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FA9974-F956-42DD-A3B1-520FE0FEEC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93ED3F-F83D-4092-A1D1-F5F0EF6830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595B5E-0495-4948-954C-2D04198200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CA0584-5B5F-404A-9229-EC70E534E5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D3BED6-1F75-432B-B608-8955713E84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C326AB-327D-47C5-9D56-BDF3407B4E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DF067B-5A37-4D48-B706-35C63F6437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BA7AE0-CD25-4B7F-AB24-66A730E459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3C7DDE-CFB0-4C80-8FF9-E9F48DE587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8BB74-06A2-42A8-A321-4A4CA38F8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99D88B-829C-42C2-801B-1F762E3C3E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6FF9D5-037E-4059-B032-47D5ABAE21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B88160-18D7-483B-82B5-4D9E342949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015562-2607-4081-A3E6-92E08E4FA2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D74199-7F93-4597-A6F3-FA72783828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8516BC-6CC9-4B21-81E0-863DFC78CD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8A2E7A-CC0A-4327-86A4-28F4548748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3951D6-96CA-4F9E-BE77-3AF38820C9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3443E04-61C0-4260-A112-C0BBAB53E7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C4685D-E73E-4344-8D8B-1DB8E8FC57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1441C-B75A-4B25-8534-27685549E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4D357E-C683-47FD-AC2A-CA364E191A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757217-7396-42DA-A69F-C470FDEC2D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4B94DD-AF39-4CEB-BBDA-E36826B01A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25A175-F583-42C5-87B9-EF7F9ED0EE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790236-C015-45A8-89F4-A8DC5A68C1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098B20-E6A4-4A5E-852D-49072DAD77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42D0EA-E226-435E-B63F-1C0EF1A689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99EF45-A780-45D8-B3D6-AF0509897C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2BDE1F-1BB4-46C0-A61C-959988F591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39F80F-0243-4E95-850E-FA6508558D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68661-67F7-4BDB-A5C5-78D5128C3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1CBF00-1583-421C-83F4-2F73A05EA0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DF794-0A60-4105-949E-499577BE7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9D72E-1B5C-413A-B8D0-C2691B198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349D3-6C7F-4632-B9FE-C0C162F384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 name="Freeform 7"/>
          <p:cNvSpPr/>
          <p:nvPr/>
        </p:nvSpPr>
        <p:spPr>
          <a:xfrm>
            <a:off x="-1440" y="5051520"/>
            <a:ext cx="9145440" cy="180648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78787-B77D-4D57-B283-C0C71F95857A}"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Freeform 9"/>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30AF5-3B82-428F-8F12-64EB1A9E74A7}"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8"/>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 name="Right Triangle 9"/>
          <p:cNvSpPr/>
          <p:nvPr/>
        </p:nvSpPr>
        <p:spPr>
          <a:xfrm>
            <a:off x="0" y="2647800"/>
            <a:ext cx="3571920" cy="421020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5"/>
          <p:cNvSpPr>
            <a:spLocks noGrp="1"/>
          </p:cNvSpPr>
          <p:nvPr>
            <p:ph type="sldNum" idx="9"/>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17F1E-BD55-49E2-BEB4-26E19D41D576}"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Right Triangle 9"/>
          <p:cNvSpPr/>
          <p:nvPr/>
        </p:nvSpPr>
        <p:spPr>
          <a:xfrm rot="5400000">
            <a:off x="433440" y="-433440"/>
            <a:ext cx="6858000" cy="772488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434342"/>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43434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CD58B-673A-4437-A322-C52B16D04B96}" type="slidenum">
              <a:rPr b="0" lang="en-US" sz="1600" spc="-1" strike="noStrike">
                <a:solidFill>
                  <a:srgbClr val="434342"/>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Freeform 9"/>
          <p:cNvSpPr/>
          <p:nvPr/>
        </p:nvSpPr>
        <p:spPr>
          <a:xfrm>
            <a:off x="0" y="5048280"/>
            <a:ext cx="3571920" cy="1809720"/>
          </a:xfrm>
          <a:custGeom>
            <a:avLst/>
            <a:gdLst/>
            <a:ahLst/>
            <a:rect l="l" t="t" r="r" b="b"/>
            <a:pathLst>
              <a:path w="3571875" h="1809750">
                <a:moveTo>
                  <a:pt x="0" y="1809750"/>
                </a:moveTo>
                <a:lnTo>
                  <a:pt x="2038350" y="0"/>
                </a:lnTo>
                <a:lnTo>
                  <a:pt x="3571875" y="1809750"/>
                </a:lnTo>
                <a:lnTo>
                  <a:pt x="0" y="1809750"/>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CDD4D-D286-48B6-AC0F-B590C2031F2F}"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rot="19140000">
            <a:off x="97920" y="1045440"/>
            <a:ext cx="5648400" cy="1204920"/>
          </a:xfrm>
          <a:prstGeom prst="rect">
            <a:avLst/>
          </a:prstGeom>
          <a:noFill/>
          <a:ln w="0">
            <a:noFill/>
          </a:ln>
        </p:spPr>
        <p:txBody>
          <a:bodyPr bIns="90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Franklin Gothic Medium"/>
              </a:rPr>
              <a:t>DO NOW! </a:t>
            </a:r>
            <a:endParaRPr b="0" lang="en-US" sz="4400" spc="-1" strike="noStrike">
              <a:solidFill>
                <a:srgbClr val="000000"/>
              </a:solidFill>
              <a:latin typeface="Franklin Gothic Medium"/>
            </a:endParaRPr>
          </a:p>
        </p:txBody>
      </p:sp>
      <p:sp>
        <p:nvSpPr>
          <p:cNvPr id="216" name="PlaceHolder 2"/>
          <p:cNvSpPr>
            <a:spLocks noGrp="1"/>
          </p:cNvSpPr>
          <p:nvPr>
            <p:ph type="subTitle"/>
          </p:nvPr>
        </p:nvSpPr>
        <p:spPr>
          <a:xfrm rot="19140000">
            <a:off x="810720" y="1668600"/>
            <a:ext cx="6510600" cy="1295280"/>
          </a:xfrm>
          <a:prstGeom prst="rect">
            <a:avLst/>
          </a:prstGeom>
          <a:noFill/>
          <a:ln w="0">
            <a:noFill/>
          </a:ln>
        </p:spPr>
        <p:txBody>
          <a:bodyPr tIns="90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ea typeface="Tunga"/>
              </a:rPr>
              <a:t>LIST AS MANY FAMOUS DJS YOU CAN THINK OFF THAT WORK IN CLUBS AND ON RADIO STATIONS – DO ANY OF THEM DJ TRANCE MUSIC?</a:t>
            </a:r>
            <a:endParaRPr b="1" lang="en-US" sz="2000" spc="-1" strike="noStrike">
              <a:solidFill>
                <a:srgbClr val="000000"/>
              </a:solidFill>
              <a:latin typeface="Franklin Gothic Book"/>
            </a:endParaRPr>
          </a:p>
        </p:txBody>
      </p:sp>
      <p:pic>
        <p:nvPicPr>
          <p:cNvPr id="217" name="Picture 2" descr="http://www3.images.coolspotters.com/photos/713102/djing-profile.jpg"/>
          <p:cNvPicPr/>
          <p:nvPr/>
        </p:nvPicPr>
        <p:blipFill>
          <a:blip r:embed="rId1"/>
          <a:stretch/>
        </p:blipFill>
        <p:spPr>
          <a:xfrm>
            <a:off x="5219640" y="3357720"/>
            <a:ext cx="2857680" cy="2495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10920" y="365040"/>
            <a:ext cx="75214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TRANCE - INTRODUCTION</a:t>
            </a:r>
            <a:endParaRPr b="0" lang="en-US" sz="2800" spc="-1" strike="noStrike">
              <a:solidFill>
                <a:srgbClr val="000000"/>
              </a:solidFill>
              <a:latin typeface="Franklin Gothic Medium"/>
            </a:endParaRPr>
          </a:p>
        </p:txBody>
      </p:sp>
      <p:sp>
        <p:nvSpPr>
          <p:cNvPr id="238" name=""/>
          <p:cNvSpPr txBox="1"/>
          <p:nvPr/>
        </p:nvSpPr>
        <p:spPr>
          <a:xfrm>
            <a:off x="304920" y="907560"/>
            <a:ext cx="8686800" cy="5185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Book"/>
              </a:rPr>
              <a:t>Contemporary trance music has a clear relationship with the spiritual and ceremonial use of music and dance, practiced by many cultures the world over, to alter states of consciousness and attain a kind of group mind, or a spiritual/mystical experience. Traditionally, different repetitive percussive sounds and drumming patterns send people into a trance, from loud bass thuds to soft rattles.  Listening to this music can be an experience in which you forget time and place because effective participation with trance music alters the ‘relation of the self to the world’.</a:t>
            </a:r>
            <a:endParaRPr b="1" lang="en-US" sz="2400" spc="-1" strike="noStrike">
              <a:solidFill>
                <a:srgbClr val="000000"/>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Franklin Gothic Book"/>
              </a:rPr>
              <a:t> </a:t>
            </a: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78920" y="4005360"/>
            <a:ext cx="259236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TIONAL TRANCE INSTRUMENT</a:t>
            </a:r>
            <a:endParaRPr b="0" lang="en-US" sz="1800" spc="-1" strike="noStrike">
              <a:solidFill>
                <a:srgbClr val="000000"/>
              </a:solidFill>
              <a:latin typeface="Franklin Gothic Medium"/>
            </a:endParaRPr>
          </a:p>
        </p:txBody>
      </p:sp>
      <p:pic>
        <p:nvPicPr>
          <p:cNvPr id="240" name="Picture 4" descr="_x001f_traditional trance in#E6596.jpg                                000E658F_x0011_Jonathan's Laptop              C2DF6683:"/>
          <p:cNvPicPr/>
          <p:nvPr/>
        </p:nvPicPr>
        <p:blipFill>
          <a:blip r:embed="rId1"/>
          <a:stretch/>
        </p:blipFill>
        <p:spPr>
          <a:xfrm>
            <a:off x="179280" y="189000"/>
            <a:ext cx="2548080" cy="3681360"/>
          </a:xfrm>
          <a:prstGeom prst="rect">
            <a:avLst/>
          </a:prstGeom>
          <a:ln w="9360">
            <a:solidFill>
              <a:srgbClr val="000000"/>
            </a:solidFill>
            <a:miter/>
          </a:ln>
        </p:spPr>
      </p:pic>
      <p:pic>
        <p:nvPicPr>
          <p:cNvPr id="241" name="Picture 4" descr="_x001f_kwaku baah and Ganoua#E6594.jpg                                000E658F_x0011_Jonathan's Laptop              C2DF6683:"/>
          <p:cNvPicPr/>
          <p:nvPr/>
        </p:nvPicPr>
        <p:blipFill>
          <a:blip r:embed="rId2"/>
          <a:stretch/>
        </p:blipFill>
        <p:spPr>
          <a:xfrm>
            <a:off x="4616280" y="189000"/>
            <a:ext cx="4348440" cy="3109680"/>
          </a:xfrm>
          <a:prstGeom prst="rect">
            <a:avLst/>
          </a:prstGeom>
          <a:ln w="9360">
            <a:solidFill>
              <a:srgbClr val="000000"/>
            </a:solidFill>
            <a:miter/>
          </a:ln>
        </p:spPr>
      </p:pic>
      <p:sp>
        <p:nvSpPr>
          <p:cNvPr id="242" name="Rectangle 2"/>
          <p:cNvSpPr/>
          <p:nvPr/>
        </p:nvSpPr>
        <p:spPr>
          <a:xfrm>
            <a:off x="4648320" y="3429000"/>
            <a:ext cx="4316400" cy="549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WAKU BAAH AND GANOUA PERCUSSIVE TRANCE</a:t>
            </a:r>
            <a:endParaRPr b="0" lang="en-US" sz="1800" spc="-1" strike="noStrike">
              <a:solidFill>
                <a:srgbClr val="000000"/>
              </a:solidFill>
              <a:latin typeface="Arial"/>
            </a:endParaRPr>
          </a:p>
        </p:txBody>
      </p:sp>
      <p:pic>
        <p:nvPicPr>
          <p:cNvPr id="243" name="Picture 5" descr="_x001f_Houyarites women tran#E6593.jpg                                000E658F_x0011_Jonathan's Laptop              C2DF6683:"/>
          <p:cNvPicPr/>
          <p:nvPr/>
        </p:nvPicPr>
        <p:blipFill>
          <a:blip r:embed="rId3"/>
          <a:stretch/>
        </p:blipFill>
        <p:spPr>
          <a:xfrm>
            <a:off x="2554200" y="4311720"/>
            <a:ext cx="3730680" cy="2457360"/>
          </a:xfrm>
          <a:prstGeom prst="rect">
            <a:avLst/>
          </a:prstGeom>
          <a:ln w="9360">
            <a:solidFill>
              <a:srgbClr val="000000"/>
            </a:solidFill>
            <a:miter/>
          </a:ln>
        </p:spPr>
      </p:pic>
      <p:sp>
        <p:nvSpPr>
          <p:cNvPr id="244" name="Rectangle 2"/>
          <p:cNvSpPr/>
          <p:nvPr/>
        </p:nvSpPr>
        <p:spPr>
          <a:xfrm>
            <a:off x="6227640" y="5229360"/>
            <a:ext cx="2536920" cy="84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YARITES WOMEN TRANCE DRUMMING GROUP</a:t>
            </a:r>
            <a:endParaRPr b="0" lang="en-US" sz="1800" spc="-1" strike="noStrike">
              <a:solidFill>
                <a:srgbClr val="000000"/>
              </a:solidFill>
              <a:latin typeface="Arial"/>
            </a:endParaRPr>
          </a:p>
        </p:txBody>
      </p:sp>
      <p:pic>
        <p:nvPicPr>
          <p:cNvPr id="245" name="dervishjowi.mp3" descr=""/>
          <p:cNvPicPr/>
          <p:nvPr/>
        </p:nvPicPr>
        <p:blipFill>
          <a:blip r:embed="rId4"/>
          <a:stretch/>
        </p:blipFill>
        <p:spPr>
          <a:xfrm>
            <a:off x="3348000" y="1628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45"/>
                    </p:tgtEl>
                  </p:cond>
                </p:stCondLst>
                <p:childTnLst>
                  <p:par>
                    <p:cTn id="3" nodeType="clickEffect" fill="hold">
                      <p:stCondLst>
                        <p:cond evt="onClick">
                          <p:tgtEl>
                            <p:spTgt spid="245"/>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213220" fill="hold"/>
                                        <p:tgtEl>
                                          <p:spTgt spid="2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10920" y="365040"/>
            <a:ext cx="75214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TRANCE - INTRODUCTION</a:t>
            </a:r>
            <a:endParaRPr b="0" lang="en-US" sz="2800" spc="-1" strike="noStrike">
              <a:solidFill>
                <a:srgbClr val="000000"/>
              </a:solidFill>
              <a:latin typeface="Franklin Gothic Medium"/>
            </a:endParaRPr>
          </a:p>
        </p:txBody>
      </p:sp>
      <p:sp>
        <p:nvSpPr>
          <p:cNvPr id="247" name=""/>
          <p:cNvSpPr txBox="1"/>
          <p:nvPr/>
        </p:nvSpPr>
        <p:spPr>
          <a:xfrm>
            <a:off x="304920" y="1052640"/>
            <a:ext cx="8686800" cy="5184720"/>
          </a:xfrm>
          <a:prstGeom prst="rect">
            <a:avLst/>
          </a:prstGeom>
          <a:noFill/>
          <a:ln w="0">
            <a:noFill/>
          </a:ln>
        </p:spPr>
        <p:txBody>
          <a:bodyPr anchor="t">
            <a:normAutofit fontScale="9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Contemporary trance music is mainly performed in clubs or at festival parties where the flickering of traditional fire flames is embellished with the use of technology, consisting of visual, auditory and sensual elements that act like an information system to heighten the participants’ experience and attain unified group euphoria.</a:t>
            </a:r>
            <a:endParaRPr b="1" lang="en-US" sz="2000" spc="-1" strike="noStrike">
              <a:solidFill>
                <a:srgbClr val="000000"/>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Franklin Gothic Book"/>
              </a:rPr>
              <a:t> </a:t>
            </a:r>
            <a:endParaRPr b="1" lang="en-US" sz="2000" spc="-1" strike="noStrike">
              <a:solidFill>
                <a:srgbClr val="000000"/>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Trance has become more popularised through talented trance music DJ's and producers, trance music labels and large recording companies. Pop and rock stars are starting to collaborate with or even outsource their recordings to Trance music composers and producers.  An early example of this is Madonna with her mature, high-quality, semi-trance album Ray Of Light (1998), almost half the tracks of which have explicitly clear Trance music elements.</a:t>
            </a:r>
            <a:endParaRPr b="1" lang="en-US" sz="2000" spc="-1" strike="noStrike">
              <a:solidFill>
                <a:srgbClr val="000000"/>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Ray of Light:</a:t>
            </a:r>
            <a:endParaRPr b="1" lang="en-US" sz="2000" spc="-1" strike="noStrike">
              <a:solidFill>
                <a:srgbClr val="000000"/>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http://www.youtube.com/watch?v=a4tD8dy9Reg&amp;ob=av3e</a:t>
            </a:r>
            <a:endParaRPr b="1" lang="en-US" sz="2000" spc="-1" strike="noStrike">
              <a:solidFill>
                <a:srgbClr val="000000"/>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anklin Gothic Book"/>
            </a:endParaRPr>
          </a:p>
        </p:txBody>
      </p:sp>
      <p:pic>
        <p:nvPicPr>
          <p:cNvPr id="248" name="Picture 2" descr="http://www.mad-eyes.net/disco/rol/images/album_600x600_rol.jpg"/>
          <p:cNvPicPr/>
          <p:nvPr/>
        </p:nvPicPr>
        <p:blipFill>
          <a:blip r:embed="rId1"/>
          <a:stretch/>
        </p:blipFill>
        <p:spPr>
          <a:xfrm>
            <a:off x="7407360" y="5141880"/>
            <a:ext cx="1655640" cy="1655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79280" y="333000"/>
            <a:ext cx="8785440" cy="5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A TYPICAL CONTEMPORARY TRANCE STUDIO</a:t>
            </a:r>
            <a:endParaRPr b="0" lang="en-US" sz="3200" spc="-1" strike="noStrike">
              <a:solidFill>
                <a:srgbClr val="000000"/>
              </a:solidFill>
              <a:latin typeface="Franklin Gothic Medium"/>
            </a:endParaRPr>
          </a:p>
        </p:txBody>
      </p:sp>
      <p:pic>
        <p:nvPicPr>
          <p:cNvPr id="250" name="Picture 5" descr="_x001e_contemporary trance studio.jpg                                 000E658F_x0011_Jonathan's Laptop              C2DF6683:"/>
          <p:cNvPicPr/>
          <p:nvPr/>
        </p:nvPicPr>
        <p:blipFill>
          <a:blip r:embed="rId1"/>
          <a:stretch/>
        </p:blipFill>
        <p:spPr>
          <a:xfrm>
            <a:off x="15840" y="1158840"/>
            <a:ext cx="9128160" cy="5705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79280" y="260280"/>
            <a:ext cx="878544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SOME SPECIFIC CONTEMPORARY TRANCE INSTRUMENTS</a:t>
            </a:r>
            <a:endParaRPr b="0" lang="en-US" sz="2400" spc="-1" strike="noStrike">
              <a:solidFill>
                <a:srgbClr val="000000"/>
              </a:solidFill>
              <a:latin typeface="Franklin Gothic Medium"/>
            </a:endParaRPr>
          </a:p>
        </p:txBody>
      </p:sp>
      <p:pic>
        <p:nvPicPr>
          <p:cNvPr id="252" name="Picture 5" descr="_x001f_contemporary trance tools 1.jpg                                000E658F_x0011_Jonathan's Laptop              C2DF6683:"/>
          <p:cNvPicPr/>
          <p:nvPr/>
        </p:nvPicPr>
        <p:blipFill>
          <a:blip r:embed="rId1"/>
          <a:stretch/>
        </p:blipFill>
        <p:spPr>
          <a:xfrm>
            <a:off x="179280" y="944640"/>
            <a:ext cx="4176720" cy="3132000"/>
          </a:xfrm>
          <a:prstGeom prst="rect">
            <a:avLst/>
          </a:prstGeom>
          <a:ln w="9360">
            <a:solidFill>
              <a:srgbClr val="000000"/>
            </a:solidFill>
            <a:miter/>
          </a:ln>
        </p:spPr>
      </p:pic>
      <p:pic>
        <p:nvPicPr>
          <p:cNvPr id="253" name="Picture 5" descr="_x001f_contemporary trance tools 2.jpg                                000E658F_x0011_Jonathan's Laptop              C2DF6683:"/>
          <p:cNvPicPr/>
          <p:nvPr/>
        </p:nvPicPr>
        <p:blipFill>
          <a:blip r:embed="rId2"/>
          <a:stretch/>
        </p:blipFill>
        <p:spPr>
          <a:xfrm>
            <a:off x="4500720" y="3397320"/>
            <a:ext cx="4457520" cy="33447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79280" y="365040"/>
            <a:ext cx="878544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CONTEMPORARY TRANCE IN A CLUB SETTING</a:t>
            </a:r>
            <a:endParaRPr b="0" lang="en-US" sz="3200" spc="-1" strike="noStrike">
              <a:solidFill>
                <a:srgbClr val="000000"/>
              </a:solidFill>
              <a:latin typeface="Franklin Gothic Medium"/>
            </a:endParaRPr>
          </a:p>
        </p:txBody>
      </p:sp>
      <p:pic>
        <p:nvPicPr>
          <p:cNvPr id="255" name="Picture 5" descr="_x0018_trance night in club.jpg                                       000E658F_x0011_Jonathan's Laptop              C2DF6683:"/>
          <p:cNvPicPr/>
          <p:nvPr/>
        </p:nvPicPr>
        <p:blipFill>
          <a:blip r:embed="rId1"/>
          <a:stretch/>
        </p:blipFill>
        <p:spPr>
          <a:xfrm>
            <a:off x="0" y="1306440"/>
            <a:ext cx="9144000" cy="5587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79280" y="365040"/>
            <a:ext cx="878544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A CONTEMPORARY TRANCE MUSIC FLYER</a:t>
            </a:r>
            <a:endParaRPr b="0" lang="en-US" sz="3200" spc="-1" strike="noStrike">
              <a:solidFill>
                <a:srgbClr val="000000"/>
              </a:solidFill>
              <a:latin typeface="Franklin Gothic Medium"/>
            </a:endParaRPr>
          </a:p>
        </p:txBody>
      </p:sp>
      <p:pic>
        <p:nvPicPr>
          <p:cNvPr id="257" name="Picture 5" descr="_x0016_trance party flyer.jpg                                         000E658F_x0011_Jonathan's Laptop              C2DF6683:"/>
          <p:cNvPicPr/>
          <p:nvPr/>
        </p:nvPicPr>
        <p:blipFill>
          <a:blip r:embed="rId1"/>
          <a:stretch/>
        </p:blipFill>
        <p:spPr>
          <a:xfrm>
            <a:off x="-36360" y="1189080"/>
            <a:ext cx="9180360" cy="5680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10920" y="365040"/>
            <a:ext cx="75214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TRANCE – MORE ARTISTS</a:t>
            </a:r>
            <a:endParaRPr b="0" lang="en-US" sz="2800" spc="-1" strike="noStrike">
              <a:solidFill>
                <a:srgbClr val="000000"/>
              </a:solidFill>
              <a:latin typeface="Franklin Gothic Medium"/>
            </a:endParaRPr>
          </a:p>
        </p:txBody>
      </p:sp>
      <p:sp>
        <p:nvSpPr>
          <p:cNvPr id="259" name=""/>
          <p:cNvSpPr txBox="1"/>
          <p:nvPr/>
        </p:nvSpPr>
        <p:spPr>
          <a:xfrm>
            <a:off x="304920" y="907920"/>
            <a:ext cx="8686800" cy="5616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Book"/>
              </a:rPr>
              <a:t>Listening to the following DJs perform and answer the questions</a:t>
            </a:r>
            <a:endParaRPr b="1" lang="en-US" sz="24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Book"/>
              </a:rPr>
              <a:t>about the music on the worksheet:</a:t>
            </a:r>
            <a:endParaRPr b="1" lang="en-US" sz="24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Book"/>
              </a:rPr>
              <a:t>DJ Tiësto - </a:t>
            </a:r>
            <a:r>
              <a:rPr b="0" lang="en-GB" sz="1600" spc="-1" strike="noStrike">
                <a:solidFill>
                  <a:srgbClr val="000000"/>
                </a:solidFill>
                <a:latin typeface="Franklin Gothic Book"/>
              </a:rPr>
              <a:t>http://www.youtube.com/watch?v=HLq931lOMR4&amp;ob=av2n</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Book"/>
              </a:rPr>
              <a:t>Paul Oakenfold - </a:t>
            </a:r>
            <a:r>
              <a:rPr b="0" lang="en-GB" sz="1600" spc="-1" strike="noStrike">
                <a:solidFill>
                  <a:srgbClr val="000000"/>
                </a:solidFill>
                <a:latin typeface="Franklin Gothic Book"/>
              </a:rPr>
              <a:t>http://www.youtube.com/watch?v=XYjnWtXbbCg&amp;feature=related</a:t>
            </a:r>
            <a:endParaRPr b="1" lang="en-US" sz="16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Book"/>
              </a:rPr>
              <a:t>Sasha - </a:t>
            </a:r>
            <a:r>
              <a:rPr b="0" lang="en-GB" sz="1600" spc="-1" strike="noStrike">
                <a:solidFill>
                  <a:srgbClr val="000000"/>
                </a:solidFill>
                <a:latin typeface="Franklin Gothic Book"/>
              </a:rPr>
              <a:t>http://www.youtube.com/watch?v=3iapYjKveMY</a:t>
            </a:r>
            <a:endParaRPr b="1" lang="en-US" sz="1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pic>
        <p:nvPicPr>
          <p:cNvPr id="260" name="Picture 2" descr="http://t2.gstatic.com/images?q=tbn:ANd9GcQiXOmYCSc8BYzyJr-i45Aw9Q_SfgGjQlNaco4dcYnP0woVDGOjqDkHSuq3vg"/>
          <p:cNvPicPr/>
          <p:nvPr/>
        </p:nvPicPr>
        <p:blipFill>
          <a:blip r:embed="rId1"/>
          <a:stretch/>
        </p:blipFill>
        <p:spPr>
          <a:xfrm>
            <a:off x="291960" y="4367160"/>
            <a:ext cx="2880000" cy="2157480"/>
          </a:xfrm>
          <a:prstGeom prst="rect">
            <a:avLst/>
          </a:prstGeom>
          <a:ln w="0">
            <a:noFill/>
          </a:ln>
        </p:spPr>
      </p:pic>
      <p:pic>
        <p:nvPicPr>
          <p:cNvPr id="261" name="Picture 4" descr="http://images.paraorkut.com/img/artists/images/p/paul_oakenfold-342.jpg"/>
          <p:cNvPicPr/>
          <p:nvPr/>
        </p:nvPicPr>
        <p:blipFill>
          <a:blip r:embed="rId2"/>
          <a:stretch/>
        </p:blipFill>
        <p:spPr>
          <a:xfrm>
            <a:off x="6588000" y="2924280"/>
            <a:ext cx="2268720" cy="3662280"/>
          </a:xfrm>
          <a:prstGeom prst="rect">
            <a:avLst/>
          </a:prstGeom>
          <a:ln w="0">
            <a:noFill/>
          </a:ln>
        </p:spPr>
      </p:pic>
      <p:pic>
        <p:nvPicPr>
          <p:cNvPr id="262" name="Picture 6" descr="http://s11.allstarpics.net/images/orig/g/y/gye4dp0uq5vteydv.jpg"/>
          <p:cNvPicPr/>
          <p:nvPr/>
        </p:nvPicPr>
        <p:blipFill>
          <a:blip r:embed="rId3"/>
          <a:stretch/>
        </p:blipFill>
        <p:spPr>
          <a:xfrm>
            <a:off x="3562200" y="3933720"/>
            <a:ext cx="2594160" cy="2584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66400" y="333000"/>
            <a:ext cx="7521480" cy="5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TRANCE DJS</a:t>
            </a:r>
            <a:endParaRPr b="0" lang="en-US" sz="2800" spc="-1" strike="noStrike">
              <a:solidFill>
                <a:srgbClr val="000000"/>
              </a:solidFill>
              <a:latin typeface="Franklin Gothic Medium"/>
            </a:endParaRPr>
          </a:p>
        </p:txBody>
      </p:sp>
      <p:sp>
        <p:nvSpPr>
          <p:cNvPr id="219" name="TextBox 3"/>
          <p:cNvSpPr/>
          <p:nvPr/>
        </p:nvSpPr>
        <p:spPr>
          <a:xfrm>
            <a:off x="250920" y="1203480"/>
            <a:ext cx="8713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J Dave Pear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youtube.com/watch?v=1hfZBTVA0R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udge Joo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youtube.com/watch?v=78njEJzK4_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te To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youtube.com/watch?v=X3hH90teEp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0" name="Picture 2" descr="http://www.bigtalentgroup.co.uk/images/large/BTG%20Dave-pearce.jpg"/>
          <p:cNvPicPr/>
          <p:nvPr/>
        </p:nvPicPr>
        <p:blipFill>
          <a:blip r:embed="rId1"/>
          <a:stretch/>
        </p:blipFill>
        <p:spPr>
          <a:xfrm>
            <a:off x="0" y="4970520"/>
            <a:ext cx="2987640" cy="1914480"/>
          </a:xfrm>
          <a:prstGeom prst="rect">
            <a:avLst/>
          </a:prstGeom>
          <a:ln w="0">
            <a:noFill/>
          </a:ln>
        </p:spPr>
      </p:pic>
      <p:pic>
        <p:nvPicPr>
          <p:cNvPr id="221" name="Picture 4" descr="http://www.djsets.co.uk/Compilations/judgejules/jju1.jpg"/>
          <p:cNvPicPr/>
          <p:nvPr/>
        </p:nvPicPr>
        <p:blipFill>
          <a:blip r:embed="rId2"/>
          <a:stretch/>
        </p:blipFill>
        <p:spPr>
          <a:xfrm>
            <a:off x="2987640" y="4970520"/>
            <a:ext cx="2736720" cy="1914480"/>
          </a:xfrm>
          <a:prstGeom prst="rect">
            <a:avLst/>
          </a:prstGeom>
          <a:ln w="0">
            <a:noFill/>
          </a:ln>
        </p:spPr>
      </p:pic>
      <p:pic>
        <p:nvPicPr>
          <p:cNvPr id="222" name="Picture 6" descr="http://www.madsets.com/sets/imagecontent/PeteTong.jpg"/>
          <p:cNvPicPr/>
          <p:nvPr/>
        </p:nvPicPr>
        <p:blipFill>
          <a:blip r:embed="rId3"/>
          <a:stretch/>
        </p:blipFill>
        <p:spPr>
          <a:xfrm>
            <a:off x="5724360" y="4970520"/>
            <a:ext cx="3456000" cy="191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78920" y="259920"/>
            <a:ext cx="6048360" cy="1800360"/>
          </a:xfrm>
          <a:prstGeom prst="rect">
            <a:avLst/>
          </a:prstGeom>
          <a:noFill/>
          <a:ln w="0">
            <a:noFill/>
          </a:ln>
        </p:spPr>
        <p:txBody>
          <a:bodyPr bIns="90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SSON 1:</a:t>
            </a:r>
            <a:br>
              <a:rPr sz="3600"/>
            </a:br>
            <a:r>
              <a:rPr b="0" lang="en-US" sz="3600" spc="-1" strike="noStrike">
                <a:solidFill>
                  <a:srgbClr val="000000"/>
                </a:solidFill>
                <a:latin typeface="Arial"/>
              </a:rPr>
              <a:t>INTRODUCING TRANCE MUSIC</a:t>
            </a:r>
            <a:endParaRPr b="0" lang="en-US" sz="3600" spc="-1" strike="noStrike">
              <a:solidFill>
                <a:srgbClr val="000000"/>
              </a:solidFill>
              <a:latin typeface="Franklin Gothic Medium"/>
            </a:endParaRPr>
          </a:p>
        </p:txBody>
      </p:sp>
      <p:sp>
        <p:nvSpPr>
          <p:cNvPr id="224" name="TextBox 1"/>
          <p:cNvSpPr/>
          <p:nvPr/>
        </p:nvSpPr>
        <p:spPr>
          <a:xfrm>
            <a:off x="4356000" y="3068640"/>
            <a:ext cx="47530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sson Objectiv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explore Club Dance music and how trance developed within this genr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develop an understanding of what musical characteristics makes a trance track</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recognise the DJ sets of popular trance DJ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10920" y="365040"/>
            <a:ext cx="75214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Franklin Gothic Medium"/>
              </a:rPr>
              <a:t>HOMEWORK – DUE NEXT THURSDAY</a:t>
            </a:r>
            <a:endParaRPr b="0" lang="en-US" sz="3600" spc="-1" strike="noStrike">
              <a:solidFill>
                <a:srgbClr val="000000"/>
              </a:solidFill>
              <a:latin typeface="Franklin Gothic Medium"/>
            </a:endParaRPr>
          </a:p>
        </p:txBody>
      </p:sp>
      <p:sp>
        <p:nvSpPr>
          <p:cNvPr id="226" name=""/>
          <p:cNvSpPr txBox="1"/>
          <p:nvPr/>
        </p:nvSpPr>
        <p:spPr>
          <a:xfrm>
            <a:off x="304920" y="1341000"/>
            <a:ext cx="8686800" cy="4248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Franklin Gothic Book"/>
              </a:rPr>
              <a:t>Investigate where in the world Trance parties mainly take place and the religious preferences of these places. Does this have an effect on the styles of music played?</a:t>
            </a:r>
            <a:endParaRPr b="1" lang="en-US" sz="4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10920" y="365040"/>
            <a:ext cx="75214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CLUB DANCE - BACKGROUND</a:t>
            </a:r>
            <a:endParaRPr b="0" lang="en-US" sz="2800" spc="-1" strike="noStrike">
              <a:solidFill>
                <a:srgbClr val="000000"/>
              </a:solidFill>
              <a:latin typeface="Franklin Gothic Medium"/>
            </a:endParaRPr>
          </a:p>
        </p:txBody>
      </p:sp>
      <p:sp>
        <p:nvSpPr>
          <p:cNvPr id="228" name=""/>
          <p:cNvSpPr txBox="1"/>
          <p:nvPr/>
        </p:nvSpPr>
        <p:spPr>
          <a:xfrm>
            <a:off x="304920" y="1052280"/>
            <a:ext cx="8686800" cy="367164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Book"/>
              </a:rPr>
              <a:t>Discotheques/nightclubs have continued to expand and evolve since the 1960s.</a:t>
            </a:r>
            <a:endParaRPr b="1" lang="en-US" sz="2400" spc="-1" strike="noStrike">
              <a:solidFill>
                <a:srgbClr val="000000"/>
              </a:solidFill>
              <a:latin typeface="Franklin Gothic Book"/>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Book"/>
              </a:rPr>
              <a:t>The developments in music technology helped to create new genres and dance styles that have grown out of disco music.</a:t>
            </a:r>
            <a:endParaRPr b="1" lang="en-US" sz="2400" spc="-1" strike="noStrike">
              <a:solidFill>
                <a:srgbClr val="000000"/>
              </a:solidFill>
              <a:latin typeface="Franklin Gothic Book"/>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Book"/>
              </a:rPr>
              <a:t>In the 1980s and 90s genres such as house, techno, </a:t>
            </a:r>
            <a:r>
              <a:rPr b="1" lang="en-GB" sz="3200" spc="-1" strike="noStrike">
                <a:solidFill>
                  <a:srgbClr val="0679a3"/>
                </a:solidFill>
                <a:latin typeface="Franklin Gothic Book"/>
              </a:rPr>
              <a:t>trance,</a:t>
            </a:r>
            <a:r>
              <a:rPr b="0" lang="en-GB" sz="2400" spc="-1" strike="noStrike">
                <a:solidFill>
                  <a:srgbClr val="000000"/>
                </a:solidFill>
                <a:latin typeface="Franklin Gothic Book"/>
              </a:rPr>
              <a:t> garage and drum ‘n’ bass emerged and gained popularity in nightclubs.</a:t>
            </a:r>
            <a:endParaRPr b="1" lang="en-US" sz="2400" spc="-1" strike="noStrike">
              <a:solidFill>
                <a:srgbClr val="000000"/>
              </a:solidFill>
              <a:latin typeface="Franklin Gothic Book"/>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Book"/>
              </a:rPr>
              <a:t>All of these genres are a form of electronic dance music.</a:t>
            </a:r>
            <a:endParaRPr b="1" lang="en-US" sz="2400" spc="-1" strike="noStrike">
              <a:solidFill>
                <a:srgbClr val="000000"/>
              </a:solidFill>
              <a:latin typeface="Franklin Gothic Book"/>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10920" y="365040"/>
            <a:ext cx="75214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CLUB DANCE – MUSIC TECHNOLOGY</a:t>
            </a:r>
            <a:endParaRPr b="0" lang="en-US" sz="2800" spc="-1" strike="noStrike">
              <a:solidFill>
                <a:srgbClr val="000000"/>
              </a:solidFill>
              <a:latin typeface="Franklin Gothic Medium"/>
            </a:endParaRPr>
          </a:p>
        </p:txBody>
      </p:sp>
      <p:sp>
        <p:nvSpPr>
          <p:cNvPr id="230" name=""/>
          <p:cNvSpPr txBox="1"/>
          <p:nvPr/>
        </p:nvSpPr>
        <p:spPr>
          <a:xfrm>
            <a:off x="304920" y="1052280"/>
            <a:ext cx="8686800" cy="360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Book"/>
              </a:rPr>
              <a:t>Electronic sounds combined with live instruments/vocals</a:t>
            </a:r>
            <a:endParaRPr b="1" lang="en-US" sz="24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Book"/>
              </a:rPr>
              <a:t>Samplers</a:t>
            </a:r>
            <a:endParaRPr b="1" lang="en-US" sz="24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Book"/>
              </a:rPr>
              <a:t>Synthesisers</a:t>
            </a:r>
            <a:endParaRPr b="1" lang="en-US" sz="24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Book"/>
              </a:rPr>
              <a:t>Sequencers</a:t>
            </a:r>
            <a:endParaRPr b="1" lang="en-US" sz="24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Book"/>
              </a:rPr>
              <a:t>Drum machines</a:t>
            </a:r>
            <a:endParaRPr b="1" lang="en-US" sz="24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Book"/>
              </a:rPr>
              <a:t>Remixing</a:t>
            </a:r>
            <a:endParaRPr b="1" lang="en-US" sz="24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10920" y="365040"/>
            <a:ext cx="75214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CLUB DANCE – THE DANCE</a:t>
            </a:r>
            <a:endParaRPr b="0" lang="en-US" sz="2800" spc="-1" strike="noStrike">
              <a:solidFill>
                <a:srgbClr val="000000"/>
              </a:solidFill>
              <a:latin typeface="Franklin Gothic Medium"/>
            </a:endParaRPr>
          </a:p>
        </p:txBody>
      </p:sp>
      <p:sp>
        <p:nvSpPr>
          <p:cNvPr id="232" name=""/>
          <p:cNvSpPr txBox="1"/>
          <p:nvPr/>
        </p:nvSpPr>
        <p:spPr>
          <a:xfrm>
            <a:off x="304920" y="1052280"/>
            <a:ext cx="8686800" cy="360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Book"/>
              </a:rPr>
              <a:t>At nightclubs dancers are tightly packed as they move to the thumping rhythms of the music, enhanced by synchronised laser lighting and smoke machines</a:t>
            </a:r>
            <a:endParaRPr b="1" lang="en-US" sz="24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Book"/>
              </a:rPr>
              <a:t>Dancers stay in one spot on the dance floor</a:t>
            </a:r>
            <a:endParaRPr b="1" lang="en-US" sz="24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Book"/>
              </a:rPr>
              <a:t>Most club dance is individual and improvised.</a:t>
            </a:r>
            <a:endParaRPr b="1" lang="en-US" sz="24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10920" y="365040"/>
            <a:ext cx="75214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CLUB DANCE – MUSIC CHARACTERISTICS</a:t>
            </a:r>
            <a:endParaRPr b="0" lang="en-US" sz="2800" spc="-1" strike="noStrike">
              <a:solidFill>
                <a:srgbClr val="000000"/>
              </a:solidFill>
              <a:latin typeface="Franklin Gothic Medium"/>
            </a:endParaRPr>
          </a:p>
        </p:txBody>
      </p:sp>
      <p:sp>
        <p:nvSpPr>
          <p:cNvPr id="234" name=""/>
          <p:cNvSpPr txBox="1"/>
          <p:nvPr/>
        </p:nvSpPr>
        <p:spPr>
          <a:xfrm>
            <a:off x="304920" y="1052280"/>
            <a:ext cx="8686800" cy="3098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Book"/>
              </a:rPr>
              <a:t>Most club-dance music will contain the following:</a:t>
            </a:r>
            <a:endParaRPr b="1" lang="en-US" sz="2400" spc="-1" strike="noStrike">
              <a:solidFill>
                <a:srgbClr val="000000"/>
              </a:solidFill>
              <a:latin typeface="Franklin Gothic Book"/>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Book"/>
              </a:rPr>
              <a:t>A 4/4 time signature and steady tempo</a:t>
            </a:r>
            <a:endParaRPr b="1" lang="en-US" sz="2400" spc="-1" strike="noStrike">
              <a:solidFill>
                <a:srgbClr val="000000"/>
              </a:solidFill>
              <a:latin typeface="Franklin Gothic Book"/>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Book"/>
              </a:rPr>
              <a:t>A prominent use of electronic sounds</a:t>
            </a:r>
            <a:endParaRPr b="1" lang="en-US" sz="2400" spc="-1" strike="noStrike">
              <a:solidFill>
                <a:srgbClr val="000000"/>
              </a:solidFill>
              <a:latin typeface="Franklin Gothic Book"/>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Book"/>
              </a:rPr>
              <a:t>A strong beat emphasis by the drums and bass</a:t>
            </a:r>
            <a:endParaRPr b="1" lang="en-US" sz="2400" spc="-1" strike="noStrike">
              <a:solidFill>
                <a:srgbClr val="000000"/>
              </a:solidFill>
              <a:latin typeface="Franklin Gothic Book"/>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Book"/>
              </a:rPr>
              <a:t>Short phrases and repetitive sections</a:t>
            </a:r>
            <a:endParaRPr b="1" lang="en-US" sz="2400" spc="-1" strike="noStrike">
              <a:solidFill>
                <a:srgbClr val="000000"/>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10920" y="365040"/>
            <a:ext cx="75214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CLUB DANCE – TRANCE</a:t>
            </a:r>
            <a:endParaRPr b="0" lang="en-US" sz="2800" spc="-1" strike="noStrike">
              <a:solidFill>
                <a:srgbClr val="000000"/>
              </a:solidFill>
              <a:latin typeface="Franklin Gothic Medium"/>
            </a:endParaRPr>
          </a:p>
        </p:txBody>
      </p:sp>
      <p:sp>
        <p:nvSpPr>
          <p:cNvPr id="236" name=""/>
          <p:cNvSpPr txBox="1"/>
          <p:nvPr/>
        </p:nvSpPr>
        <p:spPr>
          <a:xfrm>
            <a:off x="304920" y="1052280"/>
            <a:ext cx="8686800" cy="3098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Slower tempo than most Club Dance genres</a:t>
            </a:r>
            <a:endParaRPr b="1" lang="en-US" sz="20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Focus on melodic lines</a:t>
            </a:r>
            <a:endParaRPr b="1" lang="en-US" sz="20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A chilled-out feel</a:t>
            </a:r>
            <a:endParaRPr b="1" lang="en-US" sz="20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A ‘drifting’ sense to the music without a clearly defined structure</a:t>
            </a:r>
            <a:endParaRPr b="1" lang="en-US" sz="20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2T09:08:33Z</dcterms:created>
  <dc:creator>Jonathan Savage</dc:creator>
  <dc:description/>
  <dc:language>en-US</dc:language>
  <cp:lastModifiedBy>cranda</cp:lastModifiedBy>
  <dcterms:modified xsi:type="dcterms:W3CDTF">2012-02-17T17:37:04Z</dcterms:modified>
  <cp:revision>19</cp:revision>
  <dc:subject/>
  <dc:title>Trance Music</dc:title>
</cp:coreProperties>
</file>